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12E2-A6D0-40B1-8DC3-1BEFA7FD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7049-2263-4FDA-973C-25AA2091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AB2F-4318-4939-8130-28052524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9A3-E754-45D6-A830-DBA0B5FC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EDB-25B1-4489-BCF6-584E4B72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592C-DBCB-4394-99F8-71068DF9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187-DFEF-426C-95F2-AA84D577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9E5-B496-4E9D-9D74-038ACE3B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A2F9-1D2D-4183-8BA6-75A7A951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2804-A8A8-4D6C-9249-0B559137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BF2-9581-47AB-808C-B09B1A7A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DA41-F51D-4554-B38C-726D7B30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ED6F-7486-47F1-8DE0-C32B6058B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a “Sna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say the word that appears before I 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a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aft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how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smal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el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ing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n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o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ever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follow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giv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32:00Z</dcterms:created>
  <dc:creator>Wake County Public Schools</dc:creator>
  <dc:description/>
  <dc:language>en-US</dc:language>
  <cp:lastModifiedBy>jabdella</cp:lastModifiedBy>
  <dcterms:modified xsi:type="dcterms:W3CDTF">2010-02-14T18:44:18Z</dcterms:modified>
  <cp:revision>5</cp:revision>
  <dc:subject/>
  <dc:title>Words in a “Snap”</dc:title>
</cp:coreProperties>
</file>